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7F7-A89B-4429-9D84-C2E2D70B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F65-6214-472D-B4B5-4AD07B0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6DB-D4C6-4F43-9EAF-644D66B3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CBA-20EE-4104-A4B7-50E314E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C2A-E9D3-4D09-A5E9-BF63F1A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FE3-F163-4DEA-A3E3-1B21DE8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B26-1AC1-429B-BAD5-2066434E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A96-BE3A-4D61-89AB-E6B8E78B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D1A-2EF5-43CD-BD4D-9710A98A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FDA-2116-4BF4-801B-C344A22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7C5-034C-4D7B-883A-03C5522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8E4-42EF-4D60-9CAD-35A0CE6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D4B-1283-498D-9540-59886099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UvV0YcFMv3BZqM&amp;tbnid=pDefTscwv2hCIM:&amp;ved=0CAUQjRw&amp;url=http%3A%2F%2Fwww.visit-saint-petersburg.ru%2Fenglish_version_%2Frussian_revolution%2F&amp;ei=qjoXUpngAvGa1AXTw4Fw&amp;bvm=bv.51156542,d.d2k&amp;psig=AFQjCNFGadkjwT6C3JF_38CE0FLovh38Uw&amp;ust=13773404259494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icholas II"/>
          <p:cNvPicPr/>
          <p:nvPr/>
        </p:nvPicPr>
        <p:blipFill>
          <a:blip r:embed="rId1"/>
          <a:stretch/>
        </p:blipFill>
        <p:spPr>
          <a:xfrm>
            <a:off x="3276720" y="3213000"/>
            <a:ext cx="2367000" cy="27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oderate party  (Constitutional 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known as the Kad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were from the Intelligentsia section of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many middle clas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nted a Parliament with free democratic elections like the British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peaceful pro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ist Revolutionary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rgest opposi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ported by many 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ed more land for those that worked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d developed the use of terror as a political weapon and employed it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Democratic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mallest opposition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 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lieved in the ideas of the Germa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munis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hinker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lieved the workers would start a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 into two groups in 1903:  the Bolsheviks and the Menshev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sheviks .vs. Menshev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sheviks (majority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d Mar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for the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a tight-knit group of         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2451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sheviks (minorit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e at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mpaign for reform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lieved in a large party of activ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5337000"/>
            <a:ext cx="1138320" cy="15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67640" y="5373720"/>
            <a:ext cx="147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in was born Vladimir Ilich Ulyanov in Simbrisk on 2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pril 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tudied law at university where he learned about western i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expelled from university for his radical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moved to St Petersburg where he became a professional 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arrested and exiled in Siberia where he adopted his name “Len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ravelled Europe where he became well known and became the leader of the Bolshevik section of the Russian Social Democratic Worker’s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125360"/>
            <a:ext cx="63723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71640" y="907920"/>
            <a:ext cx="288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als/Kadets (Moderate – want Govt like Britain – supported by M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350028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ist Revoluti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rgest with support of peas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136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she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nin - Marx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789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she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art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9280" y="2708280"/>
            <a:ext cx="4321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708280"/>
            <a:ext cx="4176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692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85128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15280" y="134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ar as Aut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28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6028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n Political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734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595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41:45Z</dcterms:created>
  <dc:creator>MACLEOD</dc:creator>
  <dc:description/>
  <dc:language>en-US</dc:language>
  <cp:lastModifiedBy>sthcantleyn1</cp:lastModifiedBy>
  <dcterms:modified xsi:type="dcterms:W3CDTF">2013-08-23T10:37:27Z</dcterms:modified>
  <cp:revision>8</cp:revision>
  <dc:subject/>
  <dc:title>Political Opponents of the Tsar</dc:title>
</cp:coreProperties>
</file>